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B81-54A4-4526-8A62-B9E18840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62EE-3EED-4A81-BE01-0BBFCA9F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B4A-ED69-4162-B0D1-D8DC4208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8CE-12F4-4680-84AC-62A49EC9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AFB4-39EA-4AD9-A150-D3A31168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7733-DF05-4931-87A9-249444B7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7857-4E4B-46D8-9105-83F2EC75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C4E3-708D-4D7E-985E-597F560A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CBC9-362C-46CB-A856-AB580420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6992-B086-4B3D-8409-66D7F0B3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F745-9D86-46DA-802A-103A0F4F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F59B-10D5-48F5-A69B-769D58A9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8C00-9EC6-412F-B9C4-0D5C7986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40CD-1400-47CF-BF8F-F43B140C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06D0-5A8B-44FF-860E-45CF5DD9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EC1D-1250-49E8-BE64-1A58C9D0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B49B-02BB-44E5-BCDA-055288F6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AD7B1-A0E9-42F8-B0CC-2B8F49E5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EFBC-6FDD-4128-B16F-08D10C22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6BCC4-2AD9-4C1E-8FE6-0AB5E54E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E8452-7309-43C3-A280-47E8C1D7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8757-7269-4A2C-B377-F238C39A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ADF-CA9B-4F9C-A294-23F45C81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D522D-EB17-4615-8B91-679954E2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2B26A-857E-4AF7-8F40-0BD675BD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AA456-05F3-4B75-BE67-79180587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22F82-4AA0-40D7-997F-E666F737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21647-35EA-4DB5-98CF-556CF2A6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D2756-D1D3-47BD-9041-D7E089F3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5E943-6E0F-4357-83AA-B9E4A2C2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EFE2F-023F-409D-830D-77E57D77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D41BB-556C-4EA2-967D-2B46F271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72382-A9BD-4419-AAE9-3EF07970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D5FF-FAA8-4150-82C7-2FBC000A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5F1AB-BD94-4CC3-B6D1-CDBF11B0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46685-A59D-4CDC-A91E-F2BE021B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078D0-C183-40CA-90ED-02489190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11FD0-42BC-462F-9A29-243230D6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ED6CE-17A6-42D3-9E8D-5303F79E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9E282-8289-457F-95DE-BD7111F5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9DE56-6A75-472B-A69D-9C00F14E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9C9B6-05B8-4F25-B47A-E4896B27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E7D3A-B289-430B-A869-8F1DDD77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A69-85EE-49BD-8F63-D174C8F9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D14-5D30-468B-9637-6CF9421E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EA4-09D2-45E3-B1A1-A34BB6D7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5A7-6A9B-4B9E-BD76-65D2C49F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43FE-1312-4E96-8383-C9DBDD26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BA0FB-1B0E-44D0-A411-3F5C44AA590A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8"/>
            <p:cNvSpPr/>
            <p:nvPr/>
          </p:nvSpPr>
          <p:spPr>
            <a:xfrm>
              <a:off x="-7920" y="-7920"/>
              <a:ext cx="863640" cy="5697720"/>
            </a:xfrm>
            <a:prstGeom prst="pie">
              <a:avLst/>
            </a:prstGeom>
            <a:solidFill>
              <a:srgbClr val="6c911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AC309-9B3B-4360-8EB0-DD1EE5D09559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5FE65-737D-434D-8847-5FFC7291FCAB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22649-951E-4894-A568-DDF788D4428A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90c226"/>
                </a:solidFill>
                <a:latin typeface="Trebuchet MS"/>
              </a:rPr>
              <a:t>Благоустройство дворовой территории </a:t>
            </a:r>
            <a:br>
              <a:rPr sz="4800"/>
            </a:br>
            <a:r>
              <a:rPr b="0" lang="ru-RU" sz="4800" spc="-1" strike="noStrike">
                <a:solidFill>
                  <a:srgbClr val="90c226"/>
                </a:solidFill>
                <a:latin typeface="Trebuchet MS"/>
              </a:rPr>
              <a:t>МО «Ерцевское», п.Ерцево, ул.Звездная, д.1, 2, 3 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57680" y="642600"/>
            <a:ext cx="37432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До начала выполнения работ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4" name="Рисунок 6" descr="G:\DCIM\100CANON\Звездная 2.JPG"/>
          <p:cNvPicPr/>
          <p:nvPr/>
        </p:nvPicPr>
        <p:blipFill>
          <a:blip r:embed="rId1"/>
          <a:stretch/>
        </p:blipFill>
        <p:spPr>
          <a:xfrm>
            <a:off x="1571760" y="2214720"/>
            <a:ext cx="591156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99760" y="4284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Выполнены работы по установке детской площадке, скамейки, установке урны 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1857240" y="2214720"/>
            <a:ext cx="542952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72738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90c226"/>
                </a:solidFill>
                <a:latin typeface="Trebuchet MS"/>
              </a:rPr>
              <a:t>Работы выполнены </a:t>
            </a:r>
            <a:br>
              <a:rPr sz="4800"/>
            </a:br>
            <a:r>
              <a:rPr b="0" lang="ru-RU" sz="4800" spc="-1" strike="noStrike">
                <a:solidFill>
                  <a:srgbClr val="90c226"/>
                </a:solidFill>
                <a:latin typeface="Trebuchet MS"/>
              </a:rPr>
              <a:t>28 июня 2018 года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5T10:47:33Z</dcterms:created>
  <dc:creator>RePack by SPecialiST</dc:creator>
  <dc:description/>
  <dc:language>en-US</dc:language>
  <cp:lastModifiedBy>Комп</cp:lastModifiedBy>
  <dcterms:modified xsi:type="dcterms:W3CDTF">2018-09-28T12:14:11Z</dcterms:modified>
  <cp:revision>19</cp:revision>
  <dc:subject/>
  <dc:title>МО «Подюжское», п.Подюга, ул.Заводская,д.21</dc:title>
</cp:coreProperties>
</file>