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500-83CC-4035-A127-FEBC70DD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392-8280-44FF-BC5A-B4B69E27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5BD-6647-44DB-BF91-3324D077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210-8703-4B2E-A5A2-73D71838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73DB-F0A7-4DD8-8586-34317CC6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3BAC-A7F3-4D5E-9945-9E2228BF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98F2-B1A1-4466-AD64-4777FE1F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65AC-0E43-40BB-805B-2F9BBABB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B828-37E8-4B8E-9C04-B065C473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1103-83B7-4E00-BBC7-294DC8FC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91CC-4D2B-4382-99EE-C4A45189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E76-9699-43F2-AE8D-87DB4C95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E4D6-F1D1-4845-901C-41531CB7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466A-878A-4E3F-826F-94F644C3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D267-DB49-41A9-AECF-0DFBA542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D71F-B8DB-44C7-91F0-834FF2B5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185C-FDB6-448C-8946-F3F0DD39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A5205-6ADD-41EA-AB60-C8E18A7E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AAA1-2FAA-4C1E-83CB-1E58CE20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A1EDF-DC0D-486C-9277-792116E9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EA53-04FF-4E29-9434-AA508257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6CB3-667E-4B7F-A5BA-C3F6A8D6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460-4B9D-4651-AC4C-C2585ADB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D8146-02FB-44B4-908A-FA7BF76A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E6FA-3FA7-4286-A383-C472F04E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1041F-2E6D-40CC-903C-17C26B70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BAC1-10B0-4CAA-B970-24C9B837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72AF2-B4A8-45AB-AA85-F1804318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7D5BA-DC3D-4A68-AF42-A90FEC33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1518D-BB5C-4852-A125-43E50978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F2E3-D90F-4509-BD48-E0C07CEB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CC02B-0AB2-4C26-883C-9BB68809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083B1-8E6A-45CF-BB42-37547FFD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DC0-A3F0-4191-9A55-272066E8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9F745-3399-4D3A-A59D-D6BAA771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56B1F-99EA-43B5-B159-7BAD0A9C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5AE70-BF5F-438A-85FD-B837703E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8A405-4C02-4FDD-88B5-13DAB485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8FC89-65B6-42D7-8EC7-086B61D3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94CC9-70EB-48BF-93D3-A21951D1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24B7F-A847-4B30-A90F-0963AE53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75582-84E4-4977-9695-1650154F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207B9-AA03-4B8E-9871-D82CF0E8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0DA-5F92-4101-950F-9CF078A3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FF7-F7D0-48B0-9FF5-FD50D08F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DCC-745D-4D8D-8ABF-57A0715F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AB28-E8DA-4BCF-91CC-6C744989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A01-DC8B-4865-A760-AAE8C561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5569C-230B-4685-8137-F3A4A944383A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8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6c911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CB135-E9FD-4E0E-8D8B-19C14BDBACA6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9D41D-6104-44B5-97EA-E1B30DA921E0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1EB45-D38E-404C-9E41-029A632D6689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Благоустройство общественной территории </a:t>
            </a:r>
            <a:br>
              <a:rPr sz="4800"/>
            </a:b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МО «Ерцевское», п.Ерцево,между улицами Пионерская и Колхозная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7680" y="642600"/>
            <a:ext cx="37432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До начала выполнения рабо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357200" y="2071800"/>
            <a:ext cx="657252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1720" y="500040"/>
            <a:ext cx="6348240" cy="15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Выполнены работы по устройству деревянных тротуаров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1571760" y="2286000"/>
            <a:ext cx="517500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72738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Работы выполнены </a:t>
            </a:r>
            <a:br>
              <a:rPr sz="4800"/>
            </a:b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05 июля 2018 года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5T10:47:33Z</dcterms:created>
  <dc:creator>RePack by SPecialiST</dc:creator>
  <dc:description/>
  <dc:language>en-US</dc:language>
  <cp:lastModifiedBy>Бухгалтерия</cp:lastModifiedBy>
  <dcterms:modified xsi:type="dcterms:W3CDTF">2018-10-01T12:37:05Z</dcterms:modified>
  <cp:revision>27</cp:revision>
  <dc:subject/>
  <dc:title>МО «Подюжское», п.Подюга, ул.Заводская,д.21</dc:title>
</cp:coreProperties>
</file>