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E21-57DF-4C8A-B33C-D0F190B3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16B-2734-4360-9E74-A972916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895-6FB0-4B89-8DAF-861322A3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448-56F0-4783-8330-B228CAE4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8DF-5DAC-40CB-96A8-9F637A3F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1C40-B43A-4D0E-8982-817FB22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4EBE-6F4E-49E8-A13C-EBAC2EF3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3AAC-358A-4573-B7A5-0A44A79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3ED-A678-4328-997A-A483D72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203C-2E40-4064-8D85-070A51AE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EC41-F5B4-4E03-BF9B-6EE1829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BEE-1D70-4B24-94EB-6260E32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BD11-7BE7-40E0-B861-592A417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C5C1-99FA-47D9-8F01-FBD280B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2AE9-C060-4BC8-98C9-493CC7EA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F369-6DC6-4BC9-9157-1F8DC2C5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6A4D-315B-4451-9D88-42796C8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8455-3C27-4272-9502-6E751737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FDE8-DC20-400B-A6AE-C966CAA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0760-257D-4FDC-9BCD-1A1A440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5C80-C9E5-4A5B-A751-4D53484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7040-1DFC-4E06-8883-03283A0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6D7-BC4F-4B88-9136-BBD8D17B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F994-08AE-4BEB-9DF1-8F43F672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4822-020F-4C8B-AEC3-ABF25B0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F5F8-C40F-42F6-B157-9A3EA39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3807-2567-49ED-A16F-60CA62C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262E-ADB1-42C0-91A4-90E7429E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08B9-6732-4216-85C9-5FAFD609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A30DC-DFB7-4CA6-AFB5-8C28CE8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F3FE-33F4-468A-9495-A36C993D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A64B-8BA2-42E1-9157-A2C4AEF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B928-A9B5-4A95-9BDE-9F8FE51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66E-84F0-4B49-955C-218953E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1064-2B10-4F7C-9AE3-58E2A8C0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197E3-F034-4C12-BA45-42F5738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93E2-4E03-4063-9F23-4D074DF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2E1E-FB17-41A2-9040-25338DF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B07AF-F530-41F7-9483-FDF66D8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FF52-5939-48B9-94D2-82098112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5350-95F4-4EE6-9AE5-E369ADD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4E68-2E3A-4B15-BF97-7F30681E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93D6-2D16-4E10-9350-C734FB3A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426-DBA2-484D-993C-EAC305C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11B-2692-461F-B917-246E961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105-8105-4744-A9EC-210FEEA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6C8-0B91-4359-A33C-AE249AA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120-1805-4818-AC1E-C61D519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630FE-225D-4786-90CA-A8257884DB6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10967-BC2A-4431-BFF4-C98AF118632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83CC3-50F7-4539-BFA1-06116EEC4BF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E2101-1075-45BC-B34A-5AF7ADD0EBC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Благоустройство общественной территории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МО «Ерцевское», п.Ерцево, ул.Гагарина,централная площадь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857680" y="642600"/>
            <a:ext cx="3743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До начала выполнения рабо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4" name="Рисунок 2" descr="G:\DCIM\100CANON\Ул. Гагарина 22.JPG"/>
          <p:cNvPicPr/>
          <p:nvPr/>
        </p:nvPicPr>
        <p:blipFill>
          <a:blip r:embed="rId1"/>
          <a:stretch/>
        </p:blipFill>
        <p:spPr>
          <a:xfrm>
            <a:off x="1428840" y="2286000"/>
            <a:ext cx="6334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ыполнены работы по установке урн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3803760" cy="3881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4572000" y="2000160"/>
            <a:ext cx="385776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273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Работы выполнены </a:t>
            </a:r>
            <a:br>
              <a:rPr sz="4800"/>
            </a:b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29 июня 2018 года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5T10:47:33Z</dcterms:created>
  <dc:creator>RePack by SPecialiST</dc:creator>
  <dc:description/>
  <dc:language>en-US</dc:language>
  <cp:lastModifiedBy>Комп</cp:lastModifiedBy>
  <dcterms:modified xsi:type="dcterms:W3CDTF">2018-09-28T22:38:27Z</dcterms:modified>
  <cp:revision>21</cp:revision>
  <dc:subject/>
  <dc:title>МО «Подюжское», п.Подюга, ул.Заводская,д.21</dc:title>
</cp:coreProperties>
</file>